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"/>
              </a:rPr>
              <a:t>Click to edit the notes format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9169-E354-4659-B7A3-97F4BE5C9D3C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81BA-9C65-4F8B-A62E-D7AF2111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61FF-F495-493C-B622-FD1A0DAE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4A01-42A2-44CC-BE91-0539EEE4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1097-153D-4053-B77C-DA0C98B2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FEB-C559-4134-9C2E-0A9DA08E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F4C8-2001-4E56-A4D1-6115291A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93C9-34ED-42DF-8963-78E1409C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1C3-F15D-4C17-A00A-6C084566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54A-7D55-46E3-BAAC-942AD364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018B-99EB-4185-8EA8-0D28C456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41A3-C232-413A-B860-9D1A9AC7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FBDC-0D4D-4CE2-9C07-9DE743A5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C508-9EFA-4A7A-B418-91EFF2F20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ote Prefix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raft 1. October 17, 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lex Afanasye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anbiao 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ster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n remote h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own the registered prefix(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DN Testbed certificate delegates ownership for namesp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only when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 least one local app expects Intere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re is a connectivity to access router/gatewa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if fail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-register if do not receive the success notification from the remote hub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hould be maint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te hubs keep only soft state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f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registration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should be transparent for ap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register only with local N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cessary, registrations further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agat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553080" y="6415560"/>
            <a:ext cx="213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941640" y="1066680"/>
            <a:ext cx="275760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nrd/register/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781680" y="1295280"/>
            <a:ext cx="1828800" cy="53352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9369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mote NFD/N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5"/>
          <p:cNvSpPr/>
          <p:nvPr/>
        </p:nvSpPr>
        <p:spPr>
          <a:xfrm flipV="1">
            <a:off x="4583160" y="1598040"/>
            <a:ext cx="2220840" cy="122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033" y="0"/>
                </a:moveTo>
                <a:lnTo>
                  <a:pt x="0" y="0"/>
                </a:lnTo>
                <a:lnTo>
                  <a:pt x="0" y="21600"/>
                </a:lnTo>
                <a:lnTo>
                  <a:pt x="21600" y="21600"/>
                </a:lnTo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581280" y="2754360"/>
            <a:ext cx="1828800" cy="64620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9369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rebuchet MS"/>
              </a:rPr>
              <a:t>Local NFD/N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7"/>
          <p:cNvSpPr/>
          <p:nvPr/>
        </p:nvSpPr>
        <p:spPr>
          <a:xfrm flipV="1">
            <a:off x="4648320" y="4037040"/>
            <a:ext cx="0" cy="144792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8"/>
          <p:cNvGrpSpPr/>
          <p:nvPr/>
        </p:nvGrpSpPr>
        <p:grpSpPr>
          <a:xfrm>
            <a:off x="1141560" y="5562720"/>
            <a:ext cx="849240" cy="609480"/>
            <a:chOff x="1141560" y="5562720"/>
            <a:chExt cx="849240" cy="609480"/>
          </a:xfrm>
        </p:grpSpPr>
        <p:sp>
          <p:nvSpPr>
            <p:cNvPr id="58" name="AutoShape 9"/>
            <p:cNvSpPr/>
            <p:nvPr/>
          </p:nvSpPr>
          <p:spPr>
            <a:xfrm>
              <a:off x="114156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126288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1"/>
          <p:cNvGrpSpPr/>
          <p:nvPr/>
        </p:nvGrpSpPr>
        <p:grpSpPr>
          <a:xfrm>
            <a:off x="4189320" y="5562720"/>
            <a:ext cx="849240" cy="609480"/>
            <a:chOff x="4189320" y="5562720"/>
            <a:chExt cx="849240" cy="609480"/>
          </a:xfrm>
        </p:grpSpPr>
        <p:sp>
          <p:nvSpPr>
            <p:cNvPr id="61" name="AutoShape 12"/>
            <p:cNvSpPr/>
            <p:nvPr/>
          </p:nvSpPr>
          <p:spPr>
            <a:xfrm>
              <a:off x="418932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431064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Group 14"/>
          <p:cNvGrpSpPr/>
          <p:nvPr/>
        </p:nvGrpSpPr>
        <p:grpSpPr>
          <a:xfrm>
            <a:off x="6856560" y="5562720"/>
            <a:ext cx="849240" cy="609480"/>
            <a:chOff x="6856560" y="5562720"/>
            <a:chExt cx="849240" cy="609480"/>
          </a:xfrm>
        </p:grpSpPr>
        <p:sp>
          <p:nvSpPr>
            <p:cNvPr id="64" name="AutoShape 15"/>
            <p:cNvSpPr/>
            <p:nvPr/>
          </p:nvSpPr>
          <p:spPr>
            <a:xfrm>
              <a:off x="685656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697788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Line 17"/>
          <p:cNvSpPr/>
          <p:nvPr/>
        </p:nvSpPr>
        <p:spPr>
          <a:xfrm flipH="1" flipV="1">
            <a:off x="5334120" y="4037040"/>
            <a:ext cx="1676160" cy="1525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8"/>
          <p:cNvSpPr/>
          <p:nvPr/>
        </p:nvSpPr>
        <p:spPr>
          <a:xfrm flipV="1">
            <a:off x="1839960" y="4037040"/>
            <a:ext cx="1893960" cy="1525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635040" y="4800600"/>
            <a:ext cx="259092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app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3429000" y="4800600"/>
            <a:ext cx="220968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743200" y="3668760"/>
            <a:ext cx="323856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rib/register/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5867280" y="4800600"/>
            <a:ext cx="259092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3"/>
          <p:cNvSpPr/>
          <p:nvPr/>
        </p:nvSpPr>
        <p:spPr>
          <a:xfrm>
            <a:off x="2819520" y="1868400"/>
            <a:ext cx="3581280" cy="54900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/n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 N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wns a set of keys/certificates, delegated from user namesp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y can be restricted/scoped for NRD operations o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&lt;...&gt;/KEY/&lt;...&gt;/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edu/ucl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s/afanase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edu/ucla/cs/afanase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hronoc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gue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awka1@gmail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2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8360" indent="-198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te N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/localhop registrations with proper trust mod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registrations for set of prefix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dn/edu/uc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dn/g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5562720" y="4800600"/>
            <a:ext cx="533160" cy="98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965" y="0"/>
                  <a:pt x="10800" y="434"/>
                  <a:pt x="10800" y="969"/>
                </a:cubicBezTo>
                <a:lnTo>
                  <a:pt x="10800" y="9831"/>
                </a:lnTo>
                <a:cubicBezTo>
                  <a:pt x="10800" y="10366"/>
                  <a:pt x="15635" y="10800"/>
                  <a:pt x="21600" y="10800"/>
                </a:cubicBezTo>
                <a:cubicBezTo>
                  <a:pt x="15635" y="10800"/>
                  <a:pt x="10800" y="11234"/>
                  <a:pt x="10800" y="11769"/>
                </a:cubicBezTo>
                <a:lnTo>
                  <a:pt x="10800" y="20631"/>
                </a:lnTo>
                <a:cubicBezTo>
                  <a:pt x="10800" y="21166"/>
                  <a:pt x="5965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6172200" y="48006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be implemented in phase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phase 1, remote NRDs will process all regist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Remote registration processing on local N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fter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prefix registration for prefix &lt;P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f “/localhost”.isPrefixOf(&lt;P&gt;) or no connection to gateway hu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keys, namespaces) &lt;- enumerate keys NRD ow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each key defines “namespace” it u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we define the following convention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ey: /&lt;..1..&gt;/KEY/&lt;..2..&gt;/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namespace:  /&lt;..1..&gt;/&lt;..2..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&lt;KEY&gt;, &lt;PREFIX&gt;) &lt;- longest prefix match on key namespaces for &lt;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if nothing found, 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f &lt;PREIFX&gt; already regist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end localhop registration for &lt;PREFIX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ign with &lt;KEY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chedule registration refresh for &lt;PREFIX&gt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add &lt;PREFIX&gt; to the registered prefix se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F157-626F-4A40-86AD-1E1FE58A9C28}" type="slidenum"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cking whether connected to hu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will rely on naming conven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localhop/&lt;site&gt;/nf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/localhop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localhop/ndn/edu/ucla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localhop/org/caida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“/localhop/&lt;site&gt;/nfd” route exists in RIB, then we are connected to one or more hub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1: only /localhop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nly one hub or requires broadcast strate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2: all vari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xplicit name of the hub in the nam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tries register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ically with ndn-auto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ding remote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ach found /localhop/&lt;site&gt;/nfd e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registration for prefix &lt;P&gt; is in progress for localhop entry &lt;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/localhop/&lt;site&gt;/nfd/rib/register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error or timeout (4s), r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 5 retries (configurable parame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Only /localhop/nfd in phas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How remote registered prefix should be maintained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 state on remote hub needs to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: re-register periodically (on-demand face timeout * 9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: keep-alive + periodic face/rib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connectivity changes, remote registered prefix should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R1 signal will be sent by an extern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D should process USR1 signal and refresh all previously remotely registered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ll local apps stops, remotely registered prefix should be unregis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and face destroy should trigger clean up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up processing on local N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ocalhos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register for prefix &lt;P&gt; or and face destroy (local application stoppe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3400" indent="-39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/localhost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isPrefixOf(&lt;P&gt;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833400" indent="-39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ach registered prefix &lt;PREFIX&gt; in the registered prefix li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nd RIB entry that has prefix &lt;PREFIX&gt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f entry not foun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register &lt;PREFIX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ancel refresh ev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move from the registered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Afanasyev</cp:lastModifiedBy>
  <dcterms:modified xsi:type="dcterms:W3CDTF">2014-10-20T14:35:19Z</dcterms:modified>
  <cp:revision>15</cp:revision>
  <dc:subject/>
  <dc:title>Remote Prefix Registration</dc:title>
</cp:coreProperties>
</file>